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0C93-1366-4F13-816E-16B1156EB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D205-6E18-49B2-BA52-317CB15E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E117-777D-4AC6-B879-1D6919BBC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FC4C-32F0-4F54-842B-C769E5C11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231E-CC32-4495-918B-B522F045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A5AB-5CCF-436C-A094-DD8FD374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E582-0821-4F5B-9F3D-F38046C4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525C-548C-47E1-9436-F9F49F0F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CD89-C415-4DAB-A96C-9ABED67A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9585-39EE-4E4A-BC02-CC468FA0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51E6-155B-40F1-914A-C7DF66E6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F5AE-75D1-4376-ABE1-EF5FE5F4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2627-C59E-4020-AD0C-4E15E755FC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’ANOREX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ar Aman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Isabelle-caro-anorexia-_14-305x383.jpg"/>
          <p:cNvPicPr/>
          <p:nvPr/>
        </p:nvPicPr>
        <p:blipFill>
          <a:blip r:embed="rId1"/>
          <a:stretch/>
        </p:blipFill>
        <p:spPr>
          <a:xfrm>
            <a:off x="3352680" y="3124080"/>
            <a:ext cx="213372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 Definitions pour l’anorex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’anorexi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est un symptôme observé en médecine qui correspond à une perte répétée de l’appét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’anorexie mental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est la perte ou la diminution d’appétit se situant au niveau des troubles psychotiq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s deux sont tres tres mauvais pour vo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 beacoup des personn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urent d’anorex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ent peux tu determinier, physiqueme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Les personnes voient mince extrêm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Les personnes ne mangent pas beauc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Anorexi_jpg1_.jpg"/>
          <p:cNvPicPr/>
          <p:nvPr/>
        </p:nvPicPr>
        <p:blipFill>
          <a:blip r:embed="rId1"/>
          <a:stretch/>
        </p:blipFill>
        <p:spPr>
          <a:xfrm>
            <a:off x="5029200" y="1676520"/>
            <a:ext cx="297180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ent peux tu determinier, mentalement et comporteme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 personnes ne fait pas pensee ils ou elles sont mince extrêm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 personnes exercent beaucoup et sont hyperactivit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s personnes ont les situations de conflits avec l’entourage famili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 Pourcent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038120" y="1295280"/>
            <a:ext cx="4876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’anorexia se traduit par une perte de poids extrême atteignant jusqu’à 50% du poids norm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nviron 3 % des femmes seront affectées par un trouble de l'alimentation au cours de leur vi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3768-anorexie-1.jpg"/>
          <p:cNvPicPr/>
          <p:nvPr/>
        </p:nvPicPr>
        <p:blipFill>
          <a:blip r:embed="rId1"/>
          <a:stretch/>
        </p:blipFill>
        <p:spPr>
          <a:xfrm>
            <a:off x="685800" y="1523880"/>
            <a:ext cx="28195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 factors de risques biolog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’hérédité, les antécédents familiaux de dépression, d’anxiété, de troubles de l’alimentation et les problèmes de poi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external image hope-for-anorexia1.jpg"/>
          <p:cNvPicPr/>
          <p:nvPr/>
        </p:nvPicPr>
        <p:blipFill>
          <a:blip r:embed="rId1"/>
          <a:stretch/>
        </p:blipFill>
        <p:spPr>
          <a:xfrm>
            <a:off x="3276720" y="1523880"/>
            <a:ext cx="4667040" cy="27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facteurs de risques sociau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335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s relations difficiles avec la famille ou groupe de pairs, un manque de soutien, la tendance à juger de la valeur d’une personne selon son apparence physique, les sports et les occupations axées sur l’apparence et le poids ainsi que les pressions socioculturelles envers la minceu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 factors de risques Psychologiques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e faible estime de soi, la sensation de ne pas être à la hauteur, le manque de contrôle, la solitude et la colè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Anorexic-Model.jpg"/>
          <p:cNvPicPr/>
          <p:nvPr/>
        </p:nvPicPr>
        <p:blipFill>
          <a:blip r:embed="rId1"/>
          <a:stretch/>
        </p:blipFill>
        <p:spPr>
          <a:xfrm>
            <a:off x="5029200" y="1676520"/>
            <a:ext cx="25430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2:17:46Z</dcterms:created>
  <dc:creator>EHT</dc:creator>
  <dc:description/>
  <dc:language>en-US</dc:language>
  <cp:lastModifiedBy>Fernanda</cp:lastModifiedBy>
  <dcterms:modified xsi:type="dcterms:W3CDTF">2013-01-13T19:29:41Z</dcterms:modified>
  <cp:revision>7</cp:revision>
  <dc:subject/>
  <dc:title>L’ANOREXIE</dc:title>
</cp:coreProperties>
</file>